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886D-1765-45EA-9366-B79205C6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EEF9-1B21-465E-A9CE-45DA275A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2971-C422-4DE8-A000-2BA394C3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7ED0-90D1-4FA8-99C3-74F39217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3E39-CF98-4C24-A2A7-249EBC56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F3D3-AF33-45C1-A42D-AD295BA3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44CD-1C88-4CEA-9DDF-98F3E7EC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38A3-E363-40C7-A407-8737ADB8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F69C-1799-4119-B218-99CF5D18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72B9-6107-43AC-83F4-CC86E6BC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6FCE-6C3E-48EC-AC2F-A12364E2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6CE2-E198-4AEE-9AD2-C03EC694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7193-2486-4496-8911-5BC13E1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24DB-4948-444E-B585-A7C11797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B1BD-4DB5-45C9-A1A8-37BCB90E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668F-DC3B-4B31-904F-7E569325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8B70-E321-4A67-83B4-616E2E3E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9ABD-ADB4-4317-ABE7-18EBE5F8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FEAC-07D1-4A68-AACF-9ADDA8F8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6953-95C7-4EAD-BC3E-8016DC44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1E68-AEFE-49BD-89A7-06C6B905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E91D-9416-4134-9B93-39704352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0C69-47CD-4E8A-9653-41644D99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2E4C-B28B-46A1-94EE-578FC1E7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FEBA-4DE1-41E9-9F4C-F88B20D88D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7A9C-0FBB-4322-B0C2-4ABF217BF3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529360" y="401760"/>
            <a:ext cx="33901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moris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de Aliata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con azules tahalí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rvos alfanjes dorad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i coronados de plu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bonetes african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no de lutos vest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traron de cuatro en cuatr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l mal logrado Aliat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afligidos sold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gran empresa del Fénix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n la bandera vola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penas lo trató el vien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627280" y="60480"/>
            <a:ext cx="37450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emiendo el fuego tal al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a por señas de dolor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arre el suelo y deja el camp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rrastrando entre la se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l alférez va arrastran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alió el gallardo Aliat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n cien moriscos gallar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 defensa de Mot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socorro de su her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 caballo salió el mor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otro día desdich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 negras andas le vuel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 donde salió a caball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2340000" y="333360"/>
            <a:ext cx="35272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balleros del maestr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n el camino encontrar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ncubiertos de unas cañ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furiosos le saltear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iriéndole malamen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rió Aliatar mal logra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los suyos, aunque rot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vencidos se tornar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sólo le lloró Zai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ero acompáñanla cu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l Albaicín  a la Alham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eben de Genil y Darr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528280" y="546120"/>
            <a:ext cx="331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s damas  como a galá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valientes como a brav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alcaides como igu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plebeyos como a ampar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istes marcha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as trompas ronc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los tambores destemplad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3:33:51Z</dcterms:created>
  <dc:creator> </dc:creator>
  <dc:description/>
  <dc:language>en-US</dc:language>
  <cp:lastModifiedBy> </cp:lastModifiedBy>
  <dcterms:modified xsi:type="dcterms:W3CDTF">2007-10-03T03:57:16Z</dcterms:modified>
  <cp:revision>7</cp:revision>
  <dc:subject/>
  <dc:title>Diapositiva 1</dc:title>
</cp:coreProperties>
</file>